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642-5F4A-4311-B741-EEA0721A5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6E8-96ED-47E0-B1E7-1DBAABF7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455-E6B6-437C-808B-EBBA9A683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2B6-49AF-4FD7-A0FB-C732B15C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F31F-E447-44BF-A35E-C38838CEC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03C-FC28-4020-825A-3E993CADD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83C-E1E8-488C-9C68-A3A437603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5AE-CE49-4CB0-8BE2-076D8744C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BE92-E26E-4894-AD05-09D802FA8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3FC-0C7D-48AB-B4AA-5993FA86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9C0-13AD-4A09-A2A1-860D580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A9E-6E68-4843-BE9F-3F298219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318-F712-4ABA-8E1B-D5A7440C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9D41-CBCB-4F34-8B9A-7D75E19F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1578-CF77-4566-B863-BF9B9447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C4E-D800-4C66-868A-5A5AA26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4914-D13C-439D-9E79-F5B48ABD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25E3-6307-48BF-83B1-12FACAD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5BC8-2BCD-4378-B451-68B54E7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6273-9F7A-4EF4-8A20-5397319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6F4-B4B4-4E87-96F1-882A0644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70A-DC70-42B6-9F70-4B19CB88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719-9673-4426-B677-501DDD8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B881-482F-4E42-8F83-EA230A49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478D-8EA1-47CB-95E6-7745B630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877-F518-423B-93CD-8F71E75C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46E-A124-4EC0-91D3-9CF87776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A4C-F346-4E57-9115-05177785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E4A-2329-4C84-9E63-B09B895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CF3-B8C9-4642-AE7B-70B77A96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0C0-9629-4DD3-B155-DFAE19F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CF9-9F86-4008-A215-FC647C2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41F-7C74-45D6-9D2D-346786EA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8592-E0A0-4171-8CDC-10F1DF5420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9D8E-88DC-4B88-B66D-D81ADEF350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0033"/>
                </a:solidFill>
                <a:latin typeface="Times New Roman"/>
              </a:rPr>
              <a:t>Los Números y El Tiempo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P900448441[2]"/>
          <p:cNvPicPr/>
          <p:nvPr/>
        </p:nvPicPr>
        <p:blipFill>
          <a:blip r:embed="rId1"/>
          <a:stretch/>
        </p:blipFill>
        <p:spPr>
          <a:xfrm>
            <a:off x="3276720" y="2819520"/>
            <a:ext cx="3276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¿Qué hora e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Son l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all hours except 1:0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Es la u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1:00 only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¿A qué hora…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l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all hours except 1:0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Use this for 1:00 only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9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l Tiempo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we learn how to answer the questions… let’s learn how to tell time in Spanis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Cj04242320000[1]"/>
          <p:cNvPicPr/>
          <p:nvPr/>
        </p:nvPicPr>
        <p:blipFill>
          <a:blip r:embed="rId1"/>
          <a:stretch/>
        </p:blipFill>
        <p:spPr>
          <a:xfrm>
            <a:off x="2971800" y="2895480"/>
            <a:ext cx="3581280" cy="26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Qué hora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3: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5:1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:0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2:4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0: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560" y="1828800"/>
            <a:ext cx="3809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tres y ve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cinco y cu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ocho y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l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la una menos cu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las once menos di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a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A qué hora empieza l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:3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: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:5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: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: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actica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Contesta las preguntas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 fiesta? (8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mpi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 clase? (11: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mi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lase? (12: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hora es? (3: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hora es? (6:4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s respues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iest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las o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la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pie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las once y cu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la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mi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las doce y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s cuatro menos cu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s siete menos vei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 Chec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sk and tell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different in Spanish and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different ways to express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Los Números M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á</a:t>
            </a: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s de 1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520" y="1599840"/>
            <a:ext cx="40388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 =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= do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 = tr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= cat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= qu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= diecis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 = diecisi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= diecio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 = dieci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= v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5998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= tre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 = cuar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= cincu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 = ses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= set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= och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 = no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 = 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0033"/>
                </a:solidFill>
                <a:latin typeface="Times New Roman"/>
              </a:rPr>
              <a:t>Two ways to write numbers in the 20’s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icin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e y cin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i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Veinte y nu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Once you are out of the 20’s you have to write it the easy way…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reinta y 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chenta y si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senta y cua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incuenta y o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ight Arrow 4"/>
          <p:cNvSpPr/>
          <p:nvPr/>
        </p:nvSpPr>
        <p:spPr>
          <a:xfrm>
            <a:off x="3200400" y="1981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ight Arrow 5"/>
          <p:cNvSpPr/>
          <p:nvPr/>
        </p:nvSpPr>
        <p:spPr>
          <a:xfrm>
            <a:off x="3276720" y="2666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6"/>
          <p:cNvSpPr/>
          <p:nvPr/>
        </p:nvSpPr>
        <p:spPr>
          <a:xfrm>
            <a:off x="3276720" y="3352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7"/>
          <p:cNvSpPr/>
          <p:nvPr/>
        </p:nvSpPr>
        <p:spPr>
          <a:xfrm>
            <a:off x="3276720" y="3962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l Tiempo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ad 2 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s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sk and tell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different in Spanish and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different ways to express time in Spa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re are 2 question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time does something happ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s Pregun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ime does something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733920" y="2286000"/>
            <a:ext cx="267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¿Qué hora e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733920" y="3962520"/>
            <a:ext cx="2695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¿A qué hora...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50:36Z</dcterms:created>
  <dc:creator>ctaylor-simon</dc:creator>
  <dc:description/>
  <dc:language>en-US</dc:language>
  <cp:lastModifiedBy>Mustelier, Maria</cp:lastModifiedBy>
  <dcterms:modified xsi:type="dcterms:W3CDTF">2013-08-25T15:46:27Z</dcterms:modified>
  <cp:revision>13</cp:revision>
  <dc:subject/>
  <dc:title>El Tiempo</dc:title>
</cp:coreProperties>
</file>